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C32E-9C4A-4E50-81FA-03B59FFDB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074D-F8F2-4531-84BB-6BBEBEB9A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2EA8-68CE-401D-B7DF-55FDDE0D2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6106-62FE-4CB5-941D-29A8EDCC28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83FA-52D6-4AF0-8A96-55BE793051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D01D-A18C-42FD-B532-2A3737789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5183-AF34-4191-92D1-F90521ACE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DA5F-BFC2-46A4-9ADA-0DAA4FD8D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D1B6-7523-480D-88F2-67D86518C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BE48-54D4-42E2-A1BA-EB894C1D4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4B8E-B134-4483-9FAD-91C0F722F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7F33-FE65-490F-8AC6-816D06D7C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E62A-7C8A-4FE5-A04A-D54155CFE1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dugains.ca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6C22-E06E-4552-B92F-9436251DA1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- 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see as the important differences between the curriculum expectation and the learning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y is it important to make this disti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C7FD-D6F2-4431-A02D-E7312D61B6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ACCF-E44E-43BA-835D-F69F7E81AF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ould you always state the learning goal at the beginning of the lesson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consider to be the characteristics of a good consolidating ques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4550-DF9E-4972-92D7-D743FE6494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C573-1162-44CA-9FA6-CE892A4B6F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3C20-2892-46E5-9A4D-A546C88FFE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07FC-1C40-4365-82AD-94A3725180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importance of clearly identify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we want students to know (learning go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 will know that they learned it (consolidating ques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designing lesson frameworks by starting with learning goals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proportional reasoning concepts in curriculum docu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D89C-AF73-4FD6-8AB9-FF2784A464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DA5C-ACE6-4D64-BCAE-8D872F4027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ad the article “The House” individ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highlighter to highlight </a:t>
            </a: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cilitators will visit each table before you begin reading to provide further i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BEC1-B230-4F0E-A582-D836C18EC0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ED3C-E0F5-4E08-85A6-CB751791AA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choose what you consider to be the TOP 3 key features that you have highligh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ound Robin – each person will share their TOP 3 with a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e to consensus on your table’s TOP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prepared to share and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F7DA-BD03-41CC-AB96-4A5AE105E9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4DCA-7FDF-4909-BC98-A2C325855A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the ‘lens’ that your table was assigne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your TOP 3 key features of the house with 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does this activity relate to building Learning Goals and Consolidating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A176-F103-481A-BF3D-C25F11B22C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D7A7-6D43-4080-A897-2C55F5A1C9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Big Ideas and Proportional Reasoning K-1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resource on EduGAINS provides us with samples of how to create and connect Big Ideas, Curriculum Expectations, Learning Goals and Consolidation Question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dugain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Math GAI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i="1" lang="en-CA" sz="2000" spc="-1" strike="noStrike">
                <a:solidFill>
                  <a:srgbClr val="0000ff"/>
                </a:solidFill>
                <a:latin typeface="Arial"/>
                <a:ea typeface="Arial"/>
              </a:rPr>
              <a:t>Continuum and Connectio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→ </a:t>
            </a:r>
            <a:r>
              <a:rPr b="1" i="1" lang="en-CA" sz="2000" spc="-1" strike="noStrike">
                <a:solidFill>
                  <a:srgbClr val="ff0000"/>
                </a:solidFill>
                <a:latin typeface="Arial"/>
                <a:ea typeface="Arial"/>
              </a:rPr>
              <a:t>Big Ideas and Proportional Reasoning K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6F61-7A04-42F7-99EB-B30B42FC97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3C41-150E-4959-B63D-7C5D82EA7B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3886200"/>
            <a:ext cx="3733920" cy="990720"/>
          </a:xfrm>
          <a:prstGeom prst="cloudCallout">
            <a:avLst>
              <a:gd name="adj1" fmla="val -32907"/>
              <a:gd name="adj2" fmla="val 68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t’s take a look toge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corner of the room that we have designated for grade 9, 10, 11 or 12 and find someone within your corner who wishes to work on a common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t materials you will need: Chart Paper, Markers, Curriculum Document (hardcopy or online), access to Edu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a space to work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A084-F839-4D43-A432-D644CE3D58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EBBD-9D45-4172-9413-247A96D89C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CTIVITY: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You are designing the framework for a les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ind an expectation (or cluster of expectations) that addresses proportional reasoning in the course you have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 the chart paper, rec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urse code and the curriculum expectation(s)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learning goal you would have for your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nsolidating ques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 of the broader context and include a statement related to the Big Idea/Enduring Understanding that is addressed by the curriculum expecta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ost your chart paper when you are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598A-92FC-4272-9730-193E988841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6E6F-9BAA-48C3-9F31-D743C0EBBD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one another’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icitly look for the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onnec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etween the curriculum expectation, learning goal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sure to ask the ‘artists’ to explain their thinking if you ha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4DC2-E968-46BC-8999-9654139F8E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7925-1694-4781-A93B-876CD39E62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06T16:01:52Z</dcterms:modified>
  <cp:revision>38</cp:revision>
  <dc:subject/>
  <dc:title>&lt;Title&gt;</dc:title>
</cp:coreProperties>
</file>